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822-FE2D-4DEF-A909-4247A4B0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0B7-9403-467F-8F45-1843BEC7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6E6-F760-44D9-A378-97608AE9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416-DD51-4FC4-BEFB-2666A2F6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25FC-6586-4D8E-8B18-541348C5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3249-9038-4286-834E-9A0D87B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31E-E45E-4A23-8F24-60AA08A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876-2EA6-4778-922E-5EC0661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AAD-55A1-45C0-A09A-C70C9DF8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A9B-DC45-4869-81DB-E6328586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C3C-499B-47C9-89F2-1D1DECA1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1A3-D7ED-4877-803F-0555E902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2B4-81B3-4273-937C-0938982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7654-8FBE-47ED-B772-E1BE8B8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7559-3FAB-4340-89D3-22DD7F1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8176-9EE1-456E-AD64-9902759E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CEF7-9123-4A68-8041-0F66AB21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9EB-5C73-4C81-B9A2-96A0FA61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C6A-8462-4F99-B0D5-B5DF743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353-2AF4-4BEB-B8DF-5621F57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01B-2090-4289-9E33-6CAB8D6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98E-AAD7-4E62-AB52-07784FE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643-9CAF-48C9-8F07-D949382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17D-291B-465E-861C-4EB3DBE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6B1-6DA6-4505-B6C6-FB16B03AE4BD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119-E4AB-44FF-91A4-648853F25A72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531155765/ref=sib_dp_pt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video.barnesandnoble.com/search/imageviewer.asp?ean=011301650436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7227"/>
                </a:solidFill>
                <a:latin typeface="Arial Black"/>
              </a:rPr>
              <a:t>The Roman Empire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36572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reation of Empi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4" name="Picture 5" descr="Legion1"/>
          <p:cNvPicPr/>
          <p:nvPr/>
        </p:nvPicPr>
        <p:blipFill>
          <a:blip r:embed="rId1"/>
          <a:stretch/>
        </p:blipFill>
        <p:spPr>
          <a:xfrm>
            <a:off x="0" y="3378240"/>
            <a:ext cx="48006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" y="936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ROMAN ACHEIVEMENT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140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ad your topic and record information into the graphic organiz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2 duos partner and discuss (adjust/amend information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reate a poster that contains the following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was it like before/problem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it?  What did it do? Why was it helpful/important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n America is this similar t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Thesis/Claim Practic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rite a strong claim that answers the following promp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Analyze the accomplishments that advanced the Roman empire during the Pax Romana (Roman Pax)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The Fall of Rom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ax Romana ends with Marcus Aurelius (AD 161-180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ttacks by rival trib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No new resourc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lation increases due to high tax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ivil War, bankruptcy, divisio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Diocletia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oubles the army’s siz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ivides the empire into East and We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2" name="Picture 5" descr="Emperor Diocletian (245 - 313 AD)"/>
          <p:cNvPicPr/>
          <p:nvPr/>
        </p:nvPicPr>
        <p:blipFill>
          <a:blip r:embed="rId1"/>
          <a:stretch/>
        </p:blipFill>
        <p:spPr>
          <a:xfrm>
            <a:off x="6789600" y="0"/>
            <a:ext cx="23544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ap_diocletian_tetrachie_kl"/>
          <p:cNvPicPr/>
          <p:nvPr/>
        </p:nvPicPr>
        <p:blipFill>
          <a:blip r:embed="rId2"/>
          <a:stretch/>
        </p:blipFill>
        <p:spPr>
          <a:xfrm>
            <a:off x="4267080" y="3133800"/>
            <a:ext cx="48769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onstantin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oves Eastern capital to Constantinople (Byzantium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eakens the empir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egalizes Christian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eakens the customs of Rome, divis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5" descr="Constantine-Cross-Raphael"/>
          <p:cNvPicPr/>
          <p:nvPr/>
        </p:nvPicPr>
        <p:blipFill>
          <a:blip r:embed="rId1"/>
          <a:stretch/>
        </p:blipFill>
        <p:spPr>
          <a:xfrm>
            <a:off x="5334120" y="3244680"/>
            <a:ext cx="38098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The Fall of the Wes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ermanic invad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arbarians (Goths, Visigoths, Vandals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410 AD (Goths sack Rome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ttila the Hun and the Mongolian raid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nquer the empire (444 &amp; 452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5" descr="Barbarians%2520015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sons for Fall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676520"/>
          <a:ext cx="8534520" cy="52419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is a burde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interest and confidenc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 harvest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funding for military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overton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loyalty &amp; corruptio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 to trad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rian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Wa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vs. Poo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r plunde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prid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empir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shortage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recruits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ng the capital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tax burde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vs. Poo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rimary Source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13716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rimary Sourc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duced by eyewitnesses to event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Examples: Diaries, Letters, Interviews, Autobiographies, Artifacts, &amp; Painting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nvey personal experiences: Often give an emotion &amp; opin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2" descr="http://rds.yahoo.com/_ylt=A0WTeff9Tw5JkmwB2bejzbkF/SIG=12ifp7nou/EXP=1225761149/**http%3A/www.factmonster.com/images/bookCover-DiaryAnneFrank.jpg"/>
          <p:cNvPicPr/>
          <p:nvPr/>
        </p:nvPicPr>
        <p:blipFill>
          <a:blip r:embed="rId1"/>
          <a:stretch/>
        </p:blipFill>
        <p:spPr>
          <a:xfrm>
            <a:off x="6934320" y="3578400"/>
            <a:ext cx="19047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7227"/>
                </a:solidFill>
                <a:latin typeface="Arial Black"/>
              </a:rPr>
              <a:t>Secondary Source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information gathered from oth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: Textbooks &amp; Biographi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elp to understand events in a larger contex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2" descr="A History of the Holocaust (Single Title Social Studi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alyzing Source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16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rmine the reliabil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: Author &amp; when written (right after the event or much later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: Good documentation (sources cited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valuate for bia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0" name="Picture 2" descr="Greatest Generation with Tom Brokaw: DVD Co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962520"/>
            <a:ext cx="20541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Julius Caesar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actions develop in R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aesar is Consul and leads an army into Gau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Picture 5" descr="rome"/>
          <p:cNvPicPr/>
          <p:nvPr/>
        </p:nvPicPr>
        <p:blipFill>
          <a:blip r:embed="rId1"/>
          <a:stretch/>
        </p:blipFill>
        <p:spPr>
          <a:xfrm>
            <a:off x="152280" y="474840"/>
            <a:ext cx="86108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aesar defeats Gaul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roops swear loyalty to the great lead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ompey gains power and orders Caesar to disband and return to R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0" name="Picture 5" descr="vercin3"/>
          <p:cNvPicPr/>
          <p:nvPr/>
        </p:nvPicPr>
        <p:blipFill>
          <a:blip r:embed="rId1"/>
          <a:stretch/>
        </p:blipFill>
        <p:spPr>
          <a:xfrm>
            <a:off x="1752480" y="3173400"/>
            <a:ext cx="56390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17227"/>
                </a:solidFill>
                <a:latin typeface="Arial Black"/>
              </a:rPr>
              <a:t>King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aesar breaks Roman law and marches an army across the Rubicon Riv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efeats Pompe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44 BCE – named dictator for lif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Picture 5" descr="pompey"/>
          <p:cNvPicPr/>
          <p:nvPr/>
        </p:nvPicPr>
        <p:blipFill>
          <a:blip r:embed="rId1"/>
          <a:stretch/>
        </p:blipFill>
        <p:spPr>
          <a:xfrm>
            <a:off x="6553080" y="3763800"/>
            <a:ext cx="2590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aesar’s Reig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itizenship to the conquered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laces allies in the Senat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ates public jobs for the poo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uled as a tyrant!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rcus Brutus and Gaius Cassius assassinate him outside of the Senate (Tarquin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8" name="Picture 5" descr="julius caesar cartoons, julius caesar cartoon, julius caesar picture, julius caesar pictures, julius caesar image, julius caesar images, julius caesar illustration, julius caesar illustrations"/>
          <p:cNvPicPr/>
          <p:nvPr/>
        </p:nvPicPr>
        <p:blipFill>
          <a:blip r:embed="rId1"/>
          <a:stretch/>
        </p:blipFill>
        <p:spPr>
          <a:xfrm>
            <a:off x="0" y="0"/>
            <a:ext cx="370512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ulius caesar cartoons, julius caesar cartoon, julius caesar picture, julius caesar pictures, julius caesar image, julius caesar images, julius caesar illustration, julius caesar illustrations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81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aesarAssassination"/>
          <p:cNvPicPr/>
          <p:nvPr/>
        </p:nvPicPr>
        <p:blipFill>
          <a:blip r:embed="rId3"/>
          <a:stretch/>
        </p:blipFill>
        <p:spPr>
          <a:xfrm>
            <a:off x="0" y="3797280"/>
            <a:ext cx="3886200" cy="30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julius-caesar-statue"/>
          <p:cNvPicPr/>
          <p:nvPr/>
        </p:nvPicPr>
        <p:blipFill>
          <a:blip r:embed="rId4"/>
          <a:stretch/>
        </p:blipFill>
        <p:spPr>
          <a:xfrm>
            <a:off x="6832440" y="3733920"/>
            <a:ext cx="231156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aesar"/>
          <p:cNvPicPr/>
          <p:nvPr/>
        </p:nvPicPr>
        <p:blipFill>
          <a:blip r:embed="rId5"/>
          <a:stretch/>
        </p:blipFill>
        <p:spPr>
          <a:xfrm>
            <a:off x="3886200" y="380988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 Black"/>
              </a:rPr>
              <a:t>A Vast and Powerful Empir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gustus is respected for the following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xpanded to empir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feating many tribes and rival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tarting amazing building project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e also created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rain allowanc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ostal Servic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5" name="Picture 5" descr="ac822933"/>
          <p:cNvPicPr/>
          <p:nvPr/>
        </p:nvPicPr>
        <p:blipFill>
          <a:blip r:embed="rId1"/>
          <a:stretch/>
        </p:blipFill>
        <p:spPr>
          <a:xfrm>
            <a:off x="4876920" y="411480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AX ROMAN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3 Million square mil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60-80 million Roma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90% of economy is based on agricultu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eople and ideas move along trade routes cultural diffusion!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5" descr="augustus"/>
          <p:cNvPicPr/>
          <p:nvPr/>
        </p:nvPicPr>
        <p:blipFill>
          <a:blip r:embed="rId1"/>
          <a:stretch/>
        </p:blipFill>
        <p:spPr>
          <a:xfrm>
            <a:off x="3886200" y="4343400"/>
            <a:ext cx="176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AX ROMAN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190476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liseum (Bread and Circus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2" descr="http://rds.yahoo.com/_ylt=A0WTefWYNQVJtWQA9e2jzbkF/SIG=12qjncj7j/EXP=1225164568/**http%3A/82.171.153.83/forum2/fotoalbum/foto/9/1/2/colosseum-in-Rome.jpg"/>
          <p:cNvPicPr/>
          <p:nvPr/>
        </p:nvPicPr>
        <p:blipFill>
          <a:blip r:embed="rId1"/>
          <a:stretch/>
        </p:blipFill>
        <p:spPr>
          <a:xfrm>
            <a:off x="0" y="4505400"/>
            <a:ext cx="3333600" cy="235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rds.yahoo.com/_ylt=A0WTefUGNgVJWGUACtCjzbkF/SIG=19upk0haa/EXP=1225164678/**http%3A/www.tropicalisland.de/italy/rome/forum_romanum/images/FCO%2520Rome%2520-%2520Roman%2520Forum%2520Romanum%2520-%2520Arco%2520di%2520Settimio%2520Severo%2520or%2520Arch%2520of%2520Septimus%2520Severus%2520with%2520Tempio%2520di%2520Saturno%2520or%2520Temple%2520of%2520Saturn%25203008x2000.jpg"/>
          <p:cNvPicPr/>
          <p:nvPr/>
        </p:nvPicPr>
        <p:blipFill>
          <a:blip r:embed="rId2"/>
          <a:stretch/>
        </p:blipFill>
        <p:spPr>
          <a:xfrm>
            <a:off x="3200400" y="2906640"/>
            <a:ext cx="5943600" cy="395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Roman Chariots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1:46:57Z</dcterms:created>
  <dc:creator>Gail Kuenzi</dc:creator>
  <dc:description/>
  <cp:keywords/>
  <dc:language>en-US</dc:language>
  <cp:lastModifiedBy>Kuenzi, Robert</cp:lastModifiedBy>
  <dcterms:modified xsi:type="dcterms:W3CDTF">2014-11-17T16:14:46Z</dcterms:modified>
  <cp:revision>23</cp:revision>
  <dc:subject/>
  <dc:title>The Roman Emp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31033</vt:lpwstr>
  </property>
</Properties>
</file>